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519C-573E-4475-B136-BEF86C30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C8A8-7FBA-4B6B-9413-BB21D42C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154C-61D0-4B14-A026-59E00235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436D-590B-431C-B54C-79D49503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3B07-E957-4700-AB88-43C230C9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1696-24DE-4E1F-B4DC-2D719221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83C8-3429-4445-9382-C72371D9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FE3D-BF17-480D-BC45-1302F04E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C369-6FCB-467A-9575-2FC1F3F2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5A7E-3CFB-41C3-A4DE-BFB637E2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2031-146F-4976-95F8-4876C08B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36FB-B891-4DEC-B045-668ACFF0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7EA8-472C-4529-9C0D-0AED1A18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5B54-0DEC-4DC0-B018-3A466E3B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1CB5-0699-41BE-811F-40392AC0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68E7-F1C3-4ECE-9CBA-27471FA9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4577-F154-4B84-99C3-562F512B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265C-F579-4EFF-8A0E-A3025771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99F7-683C-4D87-879B-07F66672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A608-3072-4B64-A1A8-152E4CAD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CFFC-44F1-41A1-9591-F0814021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D621-0852-4488-A707-5CAC330C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16F0-BBA4-4905-955D-40DCB451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57B7-BFE9-4AE1-9FAA-30C10745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3D3C-517F-4CFD-8A67-C1A7E878952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6CC4-0F41-4257-A964-5AE48E4CA1D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Lesson 16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720" y="28195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Times New Roman"/>
              </a:rPr>
              <a:t>A polite request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mpare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failed to pass the exa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did not fail to pass the ex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73400" y="26114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他没有通过考试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9240" y="39625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他通过了考试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7480" y="5257800"/>
            <a:ext cx="662040" cy="76212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62120"/>
              <a:gd name="textAreaBottom" fmla="*/ 719280 h 762120"/>
            </a:gdLst>
            <a:ahLst/>
            <a:rect l="textAreaLeft" t="textAreaTop" r="textAreaRight" b="textAreaBottom"/>
            <a:pathLst>
              <a:path w="21600" h="24863">
                <a:moveTo>
                  <a:pt x="0" y="0"/>
                </a:moveTo>
                <a:lnTo>
                  <a:pt x="21600" y="0"/>
                </a:lnTo>
                <a:lnTo>
                  <a:pt x="21600" y="24863"/>
                </a:lnTo>
                <a:lnTo>
                  <a:pt x="0" y="24863"/>
                </a:lnTo>
                <a:close/>
              </a:path>
              <a:path fill="lightenLess" w="21600" h="248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63">
                <a:moveTo>
                  <a:pt x="21600" y="0"/>
                </a:moveTo>
                <a:lnTo>
                  <a:pt x="21600" y="24863"/>
                </a:lnTo>
                <a:lnTo>
                  <a:pt x="20200" y="23463"/>
                </a:lnTo>
                <a:lnTo>
                  <a:pt x="20200" y="1400"/>
                </a:lnTo>
                <a:close/>
              </a:path>
              <a:path fill="darkenLess" w="21600" h="24863">
                <a:moveTo>
                  <a:pt x="21600" y="24863"/>
                </a:moveTo>
                <a:lnTo>
                  <a:pt x="0" y="24863"/>
                </a:lnTo>
                <a:lnTo>
                  <a:pt x="1400" y="23463"/>
                </a:lnTo>
                <a:lnTo>
                  <a:pt x="20200" y="23463"/>
                </a:lnTo>
                <a:close/>
              </a:path>
              <a:path fill="lighten" w="21600" h="24863">
                <a:moveTo>
                  <a:pt x="0" y="248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63"/>
                </a:lnTo>
                <a:close/>
              </a:path>
              <a:path fill="darken" w="21600" h="24863">
                <a:moveTo>
                  <a:pt x="3794" y="12432"/>
                </a:moveTo>
                <a:lnTo>
                  <a:pt x="17806" y="5425"/>
                </a:lnTo>
                <a:lnTo>
                  <a:pt x="17806" y="19438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Arial"/>
              </a:rPr>
              <a:t>Remind:</a:t>
            </a:r>
            <a:r>
              <a:rPr b="0" lang="zh-CN" sz="3200" spc="-1" strike="noStrike">
                <a:solidFill>
                  <a:srgbClr val="ffcc66"/>
                </a:solidFill>
                <a:latin typeface="Arial"/>
              </a:rPr>
              <a:t>表示使…想起，或“记起，提醒”</a:t>
            </a:r>
            <a:br>
              <a:rPr sz="3200"/>
            </a:br>
            <a:r>
              <a:rPr b="0" lang="zh-CN" sz="3200" spc="-1" strike="noStrike">
                <a:solidFill>
                  <a:srgbClr val="ffcc66"/>
                </a:solidFill>
                <a:latin typeface="Arial"/>
              </a:rPr>
              <a:t>remind sb. to do.   </a:t>
            </a:r>
            <a:br>
              <a:rPr sz="3200"/>
            </a:br>
            <a:r>
              <a:rPr b="0" lang="zh-CN" sz="3200" spc="-1" strike="noStrike">
                <a:solidFill>
                  <a:srgbClr val="ffcc66"/>
                </a:solidFill>
                <a:latin typeface="Arial"/>
              </a:rPr>
              <a:t>Remind sb. of sth.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我提醒他寄信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这张照片使我想起了他的父亲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96280" y="2533680"/>
            <a:ext cx="561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reminded him to post the lett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42560" y="3600360"/>
            <a:ext cx="620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hoto reminds me of his fath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65360" y="4267080"/>
            <a:ext cx="1860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没有忘记寄你的信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替我向你的母亲问好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8960" y="4876920"/>
            <a:ext cx="56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remembered to post your lett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69320" y="5943600"/>
            <a:ext cx="52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me to your moth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360" y="4038480"/>
            <a:ext cx="17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omp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5815080"/>
            <a:ext cx="586080" cy="738000"/>
          </a:xfrm>
          <a:custGeom>
            <a:avLst/>
            <a:gdLst>
              <a:gd name="textAreaLeft" fmla="*/ 37800 w 586080"/>
              <a:gd name="textAreaRight" fmla="*/ 548280 w 586080"/>
              <a:gd name="textAreaTop" fmla="*/ 37800 h 738000"/>
              <a:gd name="textAreaBottom" fmla="*/ 700200 h 738000"/>
            </a:gdLst>
            <a:ahLst/>
            <a:rect l="textAreaLeft" t="textAreaTop" r="textAreaRight" b="textAreaBottom"/>
            <a:pathLst>
              <a:path w="21600" h="27196">
                <a:moveTo>
                  <a:pt x="0" y="0"/>
                </a:moveTo>
                <a:lnTo>
                  <a:pt x="21600" y="0"/>
                </a:lnTo>
                <a:lnTo>
                  <a:pt x="21600" y="27196"/>
                </a:lnTo>
                <a:lnTo>
                  <a:pt x="0" y="27196"/>
                </a:lnTo>
                <a:close/>
              </a:path>
              <a:path fill="lightenLess" w="21600" h="271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196">
                <a:moveTo>
                  <a:pt x="21600" y="0"/>
                </a:moveTo>
                <a:lnTo>
                  <a:pt x="21600" y="27196"/>
                </a:lnTo>
                <a:lnTo>
                  <a:pt x="20200" y="25796"/>
                </a:lnTo>
                <a:lnTo>
                  <a:pt x="20200" y="1400"/>
                </a:lnTo>
                <a:close/>
              </a:path>
              <a:path fill="darkenLess" w="21600" h="27196">
                <a:moveTo>
                  <a:pt x="21600" y="27196"/>
                </a:moveTo>
                <a:lnTo>
                  <a:pt x="0" y="27196"/>
                </a:lnTo>
                <a:lnTo>
                  <a:pt x="1400" y="25796"/>
                </a:lnTo>
                <a:lnTo>
                  <a:pt x="20200" y="25796"/>
                </a:lnTo>
                <a:close/>
              </a:path>
              <a:path fill="lighten" w="21600" h="27196">
                <a:moveTo>
                  <a:pt x="0" y="271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796"/>
                </a:lnTo>
                <a:close/>
              </a:path>
              <a:path fill="darken" w="21600" h="27196">
                <a:moveTo>
                  <a:pt x="3794" y="13598"/>
                </a:moveTo>
                <a:lnTo>
                  <a:pt x="17806" y="6591"/>
                </a:lnTo>
                <a:lnTo>
                  <a:pt x="17806" y="2060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49200"/>
            <a:ext cx="963756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条件句 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Conditional Sentences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类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--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真实条件句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entences of Real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ondi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条件句是表示在某种条件或要求下，预期会产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某种结果的表达方法。在“真实条件句 ”中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IF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假设的情况是有可能实现或发生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IF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从句中的动词用一般现在时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句中的动词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般将来时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句和从句的位置可以互换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he is out , I’ll call tomorr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he has time,he will co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You’ll miss the train if you don’t hur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’ll get there in time if he ru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72880"/>
            <a:ext cx="91440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如果要用从句表达将来的意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也只能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般现在时态的形式来表达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而绝不能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将来时的形式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it rains tomorrow,I will stay at ho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e’ll go out for a picnic if it is fine next Sunda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he has enough money next year,he’ll gotoEuro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句的变化形式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).IF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从句中的动词是现在时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句中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hall/will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可以用其它情态动词代替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it rains,we can/must/may stay at ho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it stops raining we can/may go ou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you want to lose weight,you must eat less bre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501480"/>
            <a:ext cx="9655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).IF-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句中的动词用现在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主句还可以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命令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恳求或劝告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you want to lose weight ,you had be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eat less bre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you want to lose weight,eat less bre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you see Tom tomorrow,could you ask h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o ring 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. IF-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句的变化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句中可以用现在进行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表示现在的行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或将来的安排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you are leaving tomorrow,I’ll send you a c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44240" y="577800"/>
            <a:ext cx="8509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you are looking for Peter,you’ll find h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 the libra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).IF-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句中还可用情态动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He will come tomorrow if he ca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they can help you,they wil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sk and answer the questions in pair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hat happens if you park your car in the wrong plac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e usually gives you a parking ticket, doesn’t h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re you lucky if he lets you go without on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o the traffic police always give parking ticke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raffic police are sometimes very polite, aren’t the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here were you spending a holiday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hat did you find on your car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id it welcome you to the c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re you in a “No Parking” area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hat did the note ask you to pay attention to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Retell the story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 Park--- wrong --- policeman ---f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. Lucky --- lets you go--- tic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 However --- doesn’t a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. Holiday --- Sweden --- note --- my c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. “Sir --- welcome --- city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. “No Parking”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7. Enjoy --- pay attention --- sig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8. Note--- a remin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9. A request like this --- cannot fail --- obey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 polite reque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f you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 par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your car in the wrong place, 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a traffic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policeman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will soon find it. You will be very lucky if he 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</a:rPr>
              <a:t>lets you go 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without a ticke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</a:rPr>
              <a:t>However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, this does not always happen. Traffic police are sometimes very polite. 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During a holiday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n Sweden, I found this note on my car: ‘sir, we 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welcome you to out city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. This is a “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No Parking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” area. You will enjoy your stay here if you 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pay attention to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our street signs. This note is only a 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</a:rPr>
              <a:t>remi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er.’ If you 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receive a request like thi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, you cannot 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</a:rPr>
              <a:t>fail to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ey i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 wri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ffic police usually give you a ticket if you  park you car in the wrong place. The writer found a police note on his car during a holiday in Sweden. The traffic police wanted him to pay attention to their street signs. No one can fail to obey a polite request.                                       (50 word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llow &amp; let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llow sb. to do sth. 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较为正式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b. is allowed to do s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let sb. do sth.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通常不用于被动语态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我们不允许大家在教室里吸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30440" y="3733920"/>
            <a:ext cx="246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2.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我会让你用我的字典的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4440" y="3138480"/>
            <a:ext cx="837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don’t allow people to smoke in the classro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1600" y="4419720"/>
            <a:ext cx="546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will let you use my dictiona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67160" y="838080"/>
            <a:ext cx="6586200" cy="43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par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lease allow me to buy you a drink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请让我给你买一杯酒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听起来显得客气，庄重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Let me buy you a drink.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让我来给你买一杯酒。（听起来更亲切，随便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01000" y="57150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ever &amp; but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owever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是副词，既可放在句子的开头，又可放在句中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u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是连词，用来连接一个句子，它只能位于句首，而且强调对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95680" y="3038400"/>
            <a:ext cx="727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had an invitation;________, he did not g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had an invitation, _______ he did not g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2971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e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7640" y="34290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35160" y="41353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票很贵，但我们还是决定去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69840" y="4791240"/>
            <a:ext cx="702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he tickets are expensive; however, we sti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ecided to g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b)  The tickets are expensive; but we stil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ecided to go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571500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6196" y="10800"/>
                </a:moveTo>
                <a:lnTo>
                  <a:pt x="20209" y="3794"/>
                </a:lnTo>
                <a:lnTo>
                  <a:pt x="2020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Fail to do sth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Fail to do (= do not do, cannot do)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表示“不，不能，没有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他始终每星期给母亲写信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)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他没有还清债。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81720" y="3657600"/>
            <a:ext cx="786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never fails to write (= always writes) to h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her every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22480" y="5505480"/>
            <a:ext cx="45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failed to pay his debts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2T11:29:29Z</dcterms:created>
  <dc:creator/>
  <dc:description/>
  <dc:language>en-US</dc:language>
  <cp:lastModifiedBy>史流</cp:lastModifiedBy>
  <dcterms:modified xsi:type="dcterms:W3CDTF">2002-08-09T00:43:58Z</dcterms:modified>
  <cp:revision>3</cp:revision>
  <dc:subject/>
  <dc:title>Lesson 16</dc:title>
</cp:coreProperties>
</file>